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BB5F-B3F7-49C2-BDFF-88CF314A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ABC-65E3-4608-94F1-D284D1B1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DB6-C890-4111-830E-46195E1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B63-DC4D-4BC7-993F-D9AB777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6C5-6BD6-433A-A3E9-DD9A064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418-180F-4FAC-9A3C-C14F444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D51-A0DE-4EC8-9BCD-231CCAE2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A69-1854-418D-88F8-973F9921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D6B-C91E-4206-880E-7DA75182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017-784C-43FD-ACE4-DF528AFB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F721-B95B-4CBE-8789-C39541D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480-5E17-4F76-8CD0-92B69192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marL="209520" indent="-20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74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8400" indent="-139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39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fld id="{55AA2565-7B5D-4948-9B60-8639B504396C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12920" y="368280"/>
            <a:ext cx="61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FBench: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uit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n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penFlow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49160" y="1434960"/>
            <a:ext cx="29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Student: Chen-You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Wang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學生：王辰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94240" y="1409760"/>
            <a:ext cx="26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Advisor: Ying-Dar Lin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指導教授：林盈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4480" y="2182680"/>
            <a:ext cx="3098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Design Guideli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ropose 5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s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evalu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rameter: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tio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uff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iz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nd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curac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utomatic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work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it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ontroller-agen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chite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6"/>
          <p:cNvSpPr/>
          <p:nvPr/>
        </p:nvSpPr>
        <p:spPr>
          <a:xfrm>
            <a:off x="3562200" y="4351320"/>
            <a:ext cx="27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i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97"/>
          <p:cNvSpPr/>
          <p:nvPr/>
        </p:nvSpPr>
        <p:spPr>
          <a:xfrm>
            <a:off x="3530520" y="685944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ipeline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98"/>
          <p:cNvSpPr/>
          <p:nvPr/>
        </p:nvSpPr>
        <p:spPr>
          <a:xfrm>
            <a:off x="114480" y="4876920"/>
            <a:ext cx="317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Conclus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±20%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dle-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devi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pabl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of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enerat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3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p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.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ett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hic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4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60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681200" y="11048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立交通大學 網路工程研究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圖片 2" descr=""/>
          <p:cNvPicPr/>
          <p:nvPr/>
        </p:nvPicPr>
        <p:blipFill>
          <a:blip r:embed="rId1"/>
          <a:stretch/>
        </p:blipFill>
        <p:spPr>
          <a:xfrm>
            <a:off x="160200" y="7551720"/>
            <a:ext cx="3083040" cy="1776600"/>
          </a:xfrm>
          <a:prstGeom prst="rect">
            <a:avLst/>
          </a:prstGeom>
          <a:ln w="0">
            <a:noFill/>
          </a:ln>
        </p:spPr>
      </p:pic>
      <p:pic>
        <p:nvPicPr>
          <p:cNvPr id="50" name="圖片 3" descr=""/>
          <p:cNvPicPr/>
          <p:nvPr/>
        </p:nvPicPr>
        <p:blipFill>
          <a:blip r:embed="rId2"/>
          <a:stretch/>
        </p:blipFill>
        <p:spPr>
          <a:xfrm>
            <a:off x="3441600" y="4921200"/>
            <a:ext cx="3225960" cy="1938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4" descr=""/>
          <p:cNvPicPr/>
          <p:nvPr/>
        </p:nvPicPr>
        <p:blipFill>
          <a:blip r:embed="rId3"/>
          <a:stretch/>
        </p:blipFill>
        <p:spPr>
          <a:xfrm>
            <a:off x="3448080" y="2523960"/>
            <a:ext cx="321948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370320" y="7602480"/>
          <a:ext cx="3368520" cy="1579680"/>
        </p:xfrm>
        <a:graphic>
          <a:graphicData uri="http://schemas.openxmlformats.org/drawingml/2006/table">
            <a:tbl>
              <a:tblPr/>
              <a:tblGrid>
                <a:gridCol w="1363680"/>
                <a:gridCol w="1025280"/>
                <a:gridCol w="97956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le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6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ge-corE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46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entec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97"/>
          <p:cNvSpPr/>
          <p:nvPr/>
        </p:nvSpPr>
        <p:spPr>
          <a:xfrm>
            <a:off x="266760" y="93456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97"/>
          <p:cNvSpPr/>
          <p:nvPr/>
        </p:nvSpPr>
        <p:spPr>
          <a:xfrm>
            <a:off x="3530520" y="93312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3:31:04Z</dcterms:created>
  <dc:creator>Pachinko Lin</dc:creator>
  <dc:description/>
  <dc:language>en-US</dc:language>
  <cp:lastModifiedBy>Chen-You</cp:lastModifiedBy>
  <dcterms:modified xsi:type="dcterms:W3CDTF">2016-07-25T06:51:18Z</dcterms:modified>
  <cp:revision>32</cp:revision>
  <dc:subject/>
  <dc:title>投影片 1</dc:title>
</cp:coreProperties>
</file>