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A12-CAF7-499B-BF52-3EC67AE4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758-F975-49BA-9B1A-2A4C6B0E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A6F-8237-46D1-9A5F-2650A0F1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F81-9742-40CA-A2D5-1059B37E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713-E02D-4E97-9238-ED055A1E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2C1-EB79-4610-B262-2A093E76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CF6-7A73-49C1-A795-F874F54F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2B2-4D4F-4F7D-959D-0F5EB0E1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C3D-B39C-411C-809B-E5479D64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347-E8FA-4635-BD0D-D097F788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D4D-6EBE-4463-90F5-93057B2B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CE6-29A5-42DF-A97B-688F7DBD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marL="209520" indent="-20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3960" indent="-174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8400" indent="-139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77760" indent="-139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57480" indent="-1400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57480" indent="-1400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57480" indent="-1400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fld id="{059140E9-FAEF-4DA1-8143-23B09562BC3F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12920" y="368280"/>
            <a:ext cx="61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OFBench: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Performance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test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suite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on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OpenFlow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swit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749160" y="1434960"/>
            <a:ext cx="294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Student: Chen-You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Wang</a:t>
            </a: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標楷體"/>
              </a:rPr>
              <a:t>學生：王辰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3594240" y="1409760"/>
            <a:ext cx="260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Advisor: Ying-Dar Lin</a:t>
            </a: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標楷體"/>
              </a:rPr>
              <a:t>指導教授：林盈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14480" y="2182680"/>
            <a:ext cx="3098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600" spc="-1" strike="noStrike">
                <a:solidFill>
                  <a:srgbClr val="ffe701"/>
                </a:solidFill>
                <a:latin typeface="Times New Roman"/>
              </a:rPr>
              <a:t>Design Guidelin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ropose 5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es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cas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o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evaluat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h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witch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es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7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erformanc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arameter: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ctio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im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ipelin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im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buffer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iz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acket-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t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acket-ou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t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ipelin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ga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nd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imeou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ccurac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utomatic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es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framework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with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controller-agen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rchitectu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6"/>
          <p:cNvSpPr/>
          <p:nvPr/>
        </p:nvSpPr>
        <p:spPr>
          <a:xfrm>
            <a:off x="3562200" y="4351320"/>
            <a:ext cx="278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cket-in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cket-out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97"/>
          <p:cNvSpPr/>
          <p:nvPr/>
        </p:nvSpPr>
        <p:spPr>
          <a:xfrm>
            <a:off x="3530520" y="6859440"/>
            <a:ext cx="30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ipeline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98"/>
          <p:cNvSpPr/>
          <p:nvPr/>
        </p:nvSpPr>
        <p:spPr>
          <a:xfrm>
            <a:off x="114480" y="4876920"/>
            <a:ext cx="31748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600" spc="-1" strike="noStrike">
                <a:solidFill>
                  <a:srgbClr val="ffe701"/>
                </a:solidFill>
                <a:latin typeface="Times New Roman"/>
              </a:rPr>
              <a:t>Conclus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rdwar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witch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v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±20%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idle-timeou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devia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rdwar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witch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r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capabl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of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generating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acket-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fram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h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t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nging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from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3000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o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7000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p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.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rdwar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witch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v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better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ipelin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ga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which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nging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from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40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o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60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681200" y="1104840"/>
            <a:ext cx="357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國立交通大學 網路工程研究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圖片 2" descr=""/>
          <p:cNvPicPr/>
          <p:nvPr/>
        </p:nvPicPr>
        <p:blipFill>
          <a:blip r:embed="rId1"/>
          <a:stretch/>
        </p:blipFill>
        <p:spPr>
          <a:xfrm>
            <a:off x="160200" y="7551720"/>
            <a:ext cx="3083040" cy="1776600"/>
          </a:xfrm>
          <a:prstGeom prst="rect">
            <a:avLst/>
          </a:prstGeom>
          <a:ln w="0">
            <a:noFill/>
          </a:ln>
        </p:spPr>
      </p:pic>
      <p:pic>
        <p:nvPicPr>
          <p:cNvPr id="50" name="圖片 3" descr=""/>
          <p:cNvPicPr/>
          <p:nvPr/>
        </p:nvPicPr>
        <p:blipFill>
          <a:blip r:embed="rId2"/>
          <a:stretch/>
        </p:blipFill>
        <p:spPr>
          <a:xfrm>
            <a:off x="3441600" y="4921200"/>
            <a:ext cx="3225960" cy="1938240"/>
          </a:xfrm>
          <a:prstGeom prst="rect">
            <a:avLst/>
          </a:prstGeom>
          <a:ln w="0">
            <a:noFill/>
          </a:ln>
        </p:spPr>
      </p:pic>
      <p:pic>
        <p:nvPicPr>
          <p:cNvPr id="51" name="圖片 4" descr=""/>
          <p:cNvPicPr/>
          <p:nvPr/>
        </p:nvPicPr>
        <p:blipFill>
          <a:blip r:embed="rId3"/>
          <a:stretch/>
        </p:blipFill>
        <p:spPr>
          <a:xfrm>
            <a:off x="3448080" y="2523960"/>
            <a:ext cx="3219480" cy="188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370320" y="7602480"/>
          <a:ext cx="3368520" cy="1579680"/>
        </p:xfrm>
        <a:graphic>
          <a:graphicData uri="http://schemas.openxmlformats.org/drawingml/2006/table">
            <a:tbl>
              <a:tblPr/>
              <a:tblGrid>
                <a:gridCol w="1363680"/>
                <a:gridCol w="1025280"/>
                <a:gridCol w="979560"/>
              </a:tblGrid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le-timeou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-timeou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Swi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ca8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-3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6.2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ca8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-32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ge-corE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46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entec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3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6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97"/>
          <p:cNvSpPr/>
          <p:nvPr/>
        </p:nvSpPr>
        <p:spPr>
          <a:xfrm>
            <a:off x="266760" y="9345600"/>
            <a:ext cx="30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97"/>
          <p:cNvSpPr/>
          <p:nvPr/>
        </p:nvSpPr>
        <p:spPr>
          <a:xfrm>
            <a:off x="3530520" y="9331200"/>
            <a:ext cx="30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meout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3:31:04Z</dcterms:created>
  <dc:creator>Pachinko Lin</dc:creator>
  <dc:description/>
  <dc:language>en-US</dc:language>
  <cp:lastModifiedBy>Chen-You</cp:lastModifiedBy>
  <dcterms:modified xsi:type="dcterms:W3CDTF">2016-07-25T06:51:18Z</dcterms:modified>
  <cp:revision>32</cp:revision>
  <dc:subject/>
  <dc:title>投影片 1</dc:title>
</cp:coreProperties>
</file>